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A08B-5C53-4647-940C-B9F44EBCC2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0792-149E-4848-A89A-4C99C926BDE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4F14-2F09-4D9B-8DAA-ACA156214EC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B79-CE2F-4AE9-9D41-45E98CC1ACC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B30-3F07-4E11-8CB9-1A841474EB8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D1B-86F3-4915-8118-056B60DB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A9C-502D-4510-BC82-3364310C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73F-436E-4868-8E1E-B97389D2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6CC-386C-4107-A617-E506D023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627C-96FA-4026-AEBE-D77B1671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6FDD-C602-40F3-905C-0EF1C5B9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933C-C702-479B-A4AA-E2F2805A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08A5-8CA3-444C-B4D5-517E2C5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A2C7-DD69-4722-9153-2DD8E278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90D8-9ED8-4EC7-A5BE-1DB47253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2E62-2940-445B-B1B9-5BF1F27E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DB3-9A76-45B9-9800-A4951151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18B-11E7-4E09-8BF5-CC1A0881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39A8-6F43-4A32-BE05-F8501210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5D70-CE99-4DA4-A3AA-96C9F70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5783-CD94-4F18-8814-784775C2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E379-59CC-4B57-80E9-5EC9EB76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AA4-0109-4B39-908A-70C46C1C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EBF-C5C6-4634-A055-B984E1A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C71-7133-4948-B516-D4E9DFA2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C70-34F4-44FF-AEA6-E99ACD1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779-3C03-4C34-A968-AE8746F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970-43B4-432E-98EC-118D1FA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3E4-2787-44D4-9145-D4BEF73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ffb"/>
            </a:gs>
            <a:gs pos="100000">
              <a:srgbClr val="aaff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D7F2-2645-4B49-8CAE-702E9D07BB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ffb"/>
            </a:gs>
            <a:gs pos="100000">
              <a:srgbClr val="aaff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BE8F-1AFA-4775-97A0-4E863EB32A4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17720" y="2057400"/>
            <a:ext cx="75657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ика проведения утренней гимнастики в детском сад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376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треннюю гимнастику условно делят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на три части: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водную, основную и заключительную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169056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часть имеет свои задачи и содерж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водная ча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авливает организм к выполнению более сложных упражнений и  начинается 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х видов  ходьбы (на носочках, пятках, боком, с высоким подниманием колен) с постепенным переходом на бе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последующей ходьб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 с восстановлением дых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роения (в рассыпную, в две-три колонны, в круг и т.д.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904760"/>
            <a:ext cx="830592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вят задачи укрепления основных мышечных групп, формирования правильной осанки, гибкости. Упражнения  выполняют в определенной последовательнос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мышц рук и плечевого пояс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мышц туловищ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мышц нижних конечнос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в положении сидя и лёж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http://mdou40-0.ucoz.ru/_pu/0/90650354.jpg"/>
          <p:cNvPicPr/>
          <p:nvPr/>
        </p:nvPicPr>
        <p:blipFill>
          <a:blip r:embed="rId1"/>
          <a:stretch/>
        </p:blipFill>
        <p:spPr>
          <a:xfrm>
            <a:off x="6642000" y="4038480"/>
            <a:ext cx="250200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040" y="380880"/>
            <a:ext cx="67057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ительную часть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т различные виды ходьбы, бег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ь утреннюю гимнастику следует обязательно ходьбой с упражнением на дыхание, чтобы восстановить все системы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ключить элементы здоровьесберегающих технологий, способствующие полноценному физическому развити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гимнастик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глаз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профилактики плоскостоп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Упражнения утренней гимнастики необходимо выполнять в определённой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следовательности: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2600" y="1752480"/>
          <a:ext cx="7772400" cy="49593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ова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5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четание видов ходьбы: на носках, на пятках, на наружном и внутреннем крае стоп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илактика плоскостопия и коррекция нарушения осан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дьба с продвижением вперед (Дыхательные упражнения по необходимост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становление дых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15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ения, укрепляющие мышцы плечевого пояса, рук и сп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ствуют расширению грудной клетки, выпрямлению позвоночника и формированию правильной осан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5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ения для укрепления мышц туловища и н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ствуют формированию правильной осанки, укрепление мышц но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2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люч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ыхательные упражн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становление дых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дьба на месте или с продвижением впер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нижение общего возбуждения организм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2"/>
          <p:cNvSpPr/>
          <p:nvPr/>
        </p:nvSpPr>
        <p:spPr>
          <a:xfrm>
            <a:off x="1143000" y="6858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упражнений, составление комплек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 тот же комплекс повторяется в течение двух недел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мплексов необходимо чередовать с пособиями и без пособ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первой и второй младших групп дают упражнения с флажками, погремушками, куб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– с флажками, кубиками, ленточками, обручами малого размера, палками, круговой веревк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го возраста должны уметь проделывать упражнения с разными пособиями: с обручами, гимнастическими палками, мячами разного размера, скакалками, круговой веревкой, ленточ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1724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пражнений для формирования осанки детей и укрепления стопы обязатель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комплекс общеразвивающих упражнений для утренней гимнастики берется из физкультурных занятий, упражнения подбираются из числа рекомендованных программой и методическими пособия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0880" y="201780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общеразвивающих упражнений с предметами нужно продумать порядок их раздачи и сбора, предусмотреть такое построение группы, чтобы дети не мешали друг друг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120" y="544320"/>
            <a:ext cx="8048520" cy="18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сстановка, раздача предметов, сбор и уборка не должны занимать много времени.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дошкольных учреждениях применяются следующие приемы раздачи предметов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520" y="2361960"/>
            <a:ext cx="8574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сам подходит к каждому ребенку и дает ему предмет (до построения или после него). Стоя в кругу, воспитатель бросает или катит мяч каждому ребенку; высыпает мячи из корзины, и дети по сигналу воспитателя берут мячи и встают на свое мест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выставляет корзины, ящики с мячами, кубиками и другими предметами, и дети по сигналу выходят из строя, берут их и после этого встают на свое мест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17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кладутся на стулья, скамейки. Дети выходят из строя, берут предмет и встают на свое мест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журные или направляющие колонн выходят по очереди пли одновременно, берут предметы и раздают их детям своей колон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ходят из строя все одновременно или колоннами но очереди, берут предметы из стойки (корзины, подставок, стеллажей, сеток) и встают на свое мест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берутся во время ходьбы в колонне по одно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2580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емы сбора предметов после выполнения упражнени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собирает предметы, подставляя корзину, ящи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ходят из строя, кладут предметы в корзину, ящик, поставленные в центре круга, или на стулья и встают на свое мест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ходят из строя, кладут предметы в стойки (стеллажи, сетки) и встают на свое мест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29960"/>
            <a:ext cx="65451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утренняя гимнастика?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Объект 6" descr=""/>
          <p:cNvPicPr/>
          <p:nvPr/>
        </p:nvPicPr>
        <p:blipFill>
          <a:blip r:embed="rId1"/>
          <a:stretch/>
        </p:blipFill>
        <p:spPr>
          <a:xfrm>
            <a:off x="4960800" y="2286000"/>
            <a:ext cx="4078440" cy="388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28600" y="206064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гимнастика – это комплекс упражнений, который настраивает, заряжает весь организм человека положительной энергией и бодростью на весь предстоящий день в цел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698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журные, направляющие колонн собирают предметы и кладут их на соответствующее мест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кладут предметы во время ходьбы в колонне по одному. Выбор приема раздачи и сбора предметов обусловливается возрастными особенностями детей, а также их подготовленность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https://bobr.by/data/comp/comp156.png"/>
          <p:cNvPicPr/>
          <p:nvPr/>
        </p:nvPicPr>
        <p:blipFill>
          <a:blip r:embed="rId1"/>
          <a:stretch/>
        </p:blipFill>
        <p:spPr>
          <a:xfrm>
            <a:off x="228600" y="2209680"/>
            <a:ext cx="3886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267080" y="990360"/>
            <a:ext cx="46483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, включаемые, в утреннюю гимнастику для ребенка могут быть разными, но главное, чтобы они развивали организм и выполняли в определенной последователь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ним из важных пунктов при выполнении гимнастики является то, что нужно не просто выполнить все упражнения, а важно следить за дыханием ребенка. Вдох должен быть глубоким через нос, а выдох – медленным и продолжительным через р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https://arhivurokov.ru/videouroki/html/2015/06/10/98712813/img10.jp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04920" y="1596960"/>
            <a:ext cx="86500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447920" y="565200"/>
            <a:ext cx="6400800" cy="3344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447920" y="3886200"/>
            <a:ext cx="6476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ая работа №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ветьте на предложенные вопрос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 физкультурно-оздоровительной работы в дошкольной образовательной организации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средства физического воспитания детей дошкольного возрас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является основным средством физического воспитания дошкольников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основные формы физкультурно-оздоровительной работы в дошкольной образовательной организации (ДОУ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333399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работать физкультурно–оздоровительное занятие для детей дошкольного возраста (</a:t>
            </a: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утренняя гимнастика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2895480"/>
          <a:ext cx="7772400" cy="2397240"/>
        </p:xfrm>
        <a:graphic>
          <a:graphicData uri="http://schemas.openxmlformats.org/drawingml/2006/table">
            <a:tbl>
              <a:tblPr/>
              <a:tblGrid>
                <a:gridCol w="417600"/>
                <a:gridCol w="4230720"/>
                <a:gridCol w="1181160"/>
                <a:gridCol w="194292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раст 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держание комплекса упраж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зи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рганизационно-методические указ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тренняя гимнастика способствует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ю некоторых последствий сна (отечность, вялость, сонливость и .т. д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ю тонуса нервной системы ребенка;- усилению работы всех органов и систем организма (сердечно-сосудистой, дыхательной, систем желез внутренней секреции и других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лению организма в цел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физических качеств и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ю двигательных навык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словия проведения утренней гимнаст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7" descr="http://www.castingavenue.ru/photos/5931d6295c6cd.jpg"/>
          <p:cNvPicPr/>
          <p:nvPr/>
        </p:nvPicPr>
        <p:blipFill>
          <a:blip r:embed="rId1"/>
          <a:stretch/>
        </p:blipFill>
        <p:spPr>
          <a:xfrm>
            <a:off x="5486400" y="1905120"/>
            <a:ext cx="3313080" cy="4227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52280" y="1790640"/>
            <a:ext cx="5181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гимнастика должна проводится до завтрака, на воздухе или в помещении  (в зависимости от экологических и погодных условий). В течение всей утренней гимнастики, проводимой в зале, форточки и фрамуги остаются открытыми, дети занимаются в облегченной одежде, если теплый пол, то можно босиком, это полез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6"/>
          <p:cNvSpPr/>
          <p:nvPr/>
        </p:nvSpPr>
        <p:spPr>
          <a:xfrm>
            <a:off x="1295280" y="990720"/>
            <a:ext cx="7620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утренней гимнастики необходимо выполнение ряда условий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для утренней гимнастики должна быть изготовлена из натуральных, легких материал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огах — удобная обувь (чешки) или носки с прорезиненной подошвой. Можно заниматься и босик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гигиенических требований к проведению утренней зарядки: выполнить проветривание и влажную уборку в помещен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плое время года зарядка проводится на открытом воздух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1905120"/>
          <a:ext cx="7543800" cy="4572000"/>
        </p:xfrm>
        <a:graphic>
          <a:graphicData uri="http://schemas.openxmlformats.org/drawingml/2006/table">
            <a:tbl>
              <a:tblPr/>
              <a:tblGrid>
                <a:gridCol w="1441440"/>
                <a:gridCol w="2276640"/>
                <a:gridCol w="1912680"/>
                <a:gridCol w="1913040"/>
              </a:tblGrid>
              <a:tr h="1035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ра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97ad"/>
                    </a:solidFill>
                  </a:tcPr>
                </a:tc>
              </a:tr>
              <a:tr h="708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  <a:tr h="706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  <a:tr h="708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0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 ра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  <a:tr h="706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0 ра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  <a:tr h="708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6040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должительность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утренней гимнаст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ы комплексов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тренней гимнаст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2017440"/>
            <a:ext cx="85741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онный комплекс утренней гимнастики выполняется в следующей последовательнос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постро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должительная ходьба разного вида, постепенно переходящая в бе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общеразвивающего воздействия (4-8 упр. В зависимости от возраст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должительная ходьба с дыхательными упражнения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малой подвижности или игровое упражн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4560" y="152280"/>
            <a:ext cx="78292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арианты, отличающиеся от традиционного комплекса по содержанию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методике проведения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2362320"/>
            <a:ext cx="85629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различные формы проведения утренней гимнаст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2120" indent="-4021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форма с использованием общеразвивающих упражн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2120" indent="-4021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какого-нибудь сюжета: «На прогулке», «Мы на луг ходили», «Воробушки» и др.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2120" indent="-4021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характера (из 3-4 подвижных игр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2120" indent="-4021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элементов ритмической гимнастики, танцевальных движ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2120" indent="-4021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арианты, отличающиеся от традиционного комплекса по содержанию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методике проведения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ый бег (проводится на участке в течение 3-5 минут с постепенным увеличением расстояния, интенсивности, времени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полосы препятствий (можно создавать различные полосы препятствия с использованием разнообразных модулей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простейших тренажеров (детский эспандер, гимнастический ролик и т.д.) и тренажеров сложного устройства («Велосипед», «Гребля», «Беговая дорожка», «Батут» и др.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3:01:46Z</dcterms:created>
  <dc:creator>kugi</dc:creator>
  <dc:description/>
  <dc:language>en-US</dc:language>
  <cp:lastModifiedBy>admin</cp:lastModifiedBy>
  <dcterms:modified xsi:type="dcterms:W3CDTF">2022-10-25T18:12:0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